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A80-BDF9-4620-8178-2BA00CB8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1959 NAM very active with hydrocarbon development in W Netherlands Basin (wells in Ridderkerk, Wassena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B59-3201-46F4-8E00-5C37F761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917-50E1-4A17-B028-EF59E57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E1F-2707-4D5C-925C-A57DDCF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E7F-E4B4-4827-9125-886B5217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796-0B4A-4488-B370-E70B8DF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B57-95EA-4D26-BE1C-E35D8BF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A1A-3298-421A-89E8-D10E00F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546-1858-4D9C-9C20-0CF9E0E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A6A-1D7E-4C64-ADBE-9992876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4E0-64E5-4463-A93C-DF531CC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04E-EA69-491C-BADB-298B670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F98-FD31-4657-9DB4-735AD00D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B99-5206-4533-B480-D0288771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en Glen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ity of Aberd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959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 of the Groningen Gas Discov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76200" y="-6480"/>
            <a:ext cx="659160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42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uvial Fans and Wahiba D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9360" y="316080"/>
            <a:ext cx="91627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Arabia Palaeo-wind Directions and Flooding of Arabian Gu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630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mall Barchan – South Wah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9360" y="401760"/>
            <a:ext cx="9162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33560" y="-6480"/>
            <a:ext cx="527688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in Wind direction Abu Dhabi Oman border – Latest wind to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9360" y="372960"/>
            <a:ext cx="9162720" cy="6115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uth Dipping Dune Sand at Abu Dhabi Oman B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g for Building 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9360" y="106200"/>
            <a:ext cx="9162720" cy="6648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ear Dunes in SE Rub al Khali – Crestel Spacing 1-3 K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63080" cy="6153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ka - Foresetted Dune Sand Cemented with Gy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wa Interdune Sabk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76640" y="-6480"/>
            <a:ext cx="459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544840"/>
            <a:ext cx="219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bkhat Ma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nes and Sabkhas for 140 Km South of Gulf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76640" y="-6480"/>
            <a:ext cx="459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 Mient 1938 – Oil shows during drilling dis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360" y="334800"/>
            <a:ext cx="9162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ological Map Western Europe – Note Continental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9360" y="349200"/>
            <a:ext cx="9162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9360" y="401760"/>
            <a:ext cx="9162720" cy="6057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4724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4581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OCHTEREN 2 (1960),3,4 (19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36572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93372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N BOER-1 (195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716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48690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OCHTEREN 1 (195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ningen 1963 - Mega Ga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35772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FZIJL- 1 (19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ningen Discovery Well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ochteren 1- Made it by 1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02" t="3979" r="86" b="0"/>
          <a:stretch/>
        </p:blipFill>
        <p:spPr>
          <a:xfrm rot="21540000">
            <a:off x="-1080" y="690480"/>
            <a:ext cx="91454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cies Changes – Sand Rich In South, increasingly Shaly to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360" y="725400"/>
            <a:ext cx="9162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ation North of Slochteren 1 – And more to the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9360" y="458640"/>
            <a:ext cx="91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28760" y="-6480"/>
            <a:ext cx="4686480" cy="6877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esetted Dune Sand – Groningen Ga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73440"/>
            <a:ext cx="21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ningen Cores – Mud Cracked Clays and Dune S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-6480"/>
            <a:ext cx="46864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leo Wind Directions – From Dipmeter Data – Rest of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9360" y="382680"/>
            <a:ext cx="9162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45:41Z</dcterms:created>
  <dc:creator>Ken</dc:creator>
  <dc:description/>
  <dc:language>en-US</dc:language>
  <cp:lastModifiedBy>814704</cp:lastModifiedBy>
  <dcterms:modified xsi:type="dcterms:W3CDTF">2009-01-14T15:31:39Z</dcterms:modified>
  <cp:revision>7</cp:revision>
  <dc:subject/>
  <dc:title>Slide 1</dc:title>
</cp:coreProperties>
</file>